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3BB-CD60-4679-9B33-DDDB0C25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837-D2E2-46AC-BB08-AD67E0FD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BB6-C492-47E8-9C63-E16CB02C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C3E-D7DB-4001-87E1-DCECD107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F0F3-C692-4C61-8F28-5C229E0F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84B7-8C11-4299-B9F7-77995B7B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1DFB-7EE9-45A0-B647-897C91F4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5C2B-D9EE-4F48-97B7-7738D74C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DFDC-EA9F-41BF-9152-75FAD336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CFD9-5DC6-4C42-847A-7BD3392C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510C-C766-4B95-B82C-A49445EB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EDA-CF95-4E41-8D97-01ECA7CC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6B45-457D-41A9-8DC0-0C74D27F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5E71-2D2C-40EF-822A-90DB2A15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B4FC-7A92-4151-99DA-38279F2D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4627-287A-4996-8F81-F59E18DC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35BC-25F3-4D62-AB04-1F0AB149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5B467-3173-492C-8613-E1C4F4A0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EAC27-A674-4542-9939-DD5CBB62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25C30-28FF-473D-A068-A864C720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832AA-1891-4EAD-BB50-130D8C8B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F89E7-6D7A-47B0-AD8A-C8935246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AAF-98B6-4C1F-9457-60097575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9AB5E-C232-4513-A7C9-22984604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7008E-348B-431E-AEE6-85DBAEB1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DF511-5349-49F4-86E6-6A70C0A7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CB1F1-CE42-4254-BF67-A973C0B9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92AAC-F50E-4B84-BF2B-F615CA21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EF8D5-662B-4A41-9D11-34164D70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107B6-37EE-4330-93D0-E1A69304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E986-9F7F-40B0-8C98-688B2E7A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459E5-A0F5-43FA-8CBA-289F16A3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25CDF-4077-4571-ACC9-658DA95D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D54-677F-452B-B633-37E3986E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7CC65-4E8D-49CE-9B6F-D2B89AC4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05A44-2996-4119-81D2-6B27DF76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A3095-B893-4001-B3AD-EA3C143A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CD187-50CB-41BD-9BD2-97DD3017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F02C9-6A45-44EF-A4B6-1448002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CB629-9210-4164-8CD4-0B2CB0DF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BA7E-DE15-47BA-950E-8692831D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333E-FD59-4C02-BCAD-24A6DD78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6406-B830-49DB-8926-273856A7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55E94-E148-40FA-9302-1486518F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B80-AF98-40A5-BD8D-927773F7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2CE39-1026-477A-BED6-DE5BF7A3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4C33D-FDD5-43EC-9C5F-C59066B6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30ABE-A1E8-496C-AF97-B60B4EB0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4E940-922B-4158-B549-413759BE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ADA54-1118-4057-88D4-8FB03B65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C9E20-1921-4CB0-A27C-74FFE32A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958C0-07AC-476D-88EC-A79E902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50BA0-CB5D-4EBC-B96B-3B5ADAC5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3E13D-5AE2-4B41-8FB5-37ED18F3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46CFE-2F1A-4F5D-9A2E-65A4AD53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4A0-12DA-4385-9589-53E9A7BF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10F8A-8843-48BD-ACB7-A5A8B9BC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C9132-2A70-43B5-A095-65B27D62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AC022-3648-4DAD-B56C-2FE4CA36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68AD8-5A65-45FB-B2D9-8CCFD906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F19FF-829B-4C55-98DC-68922271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71087E-A8C2-4397-926B-F679A3D9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FD4E3-8D46-4658-B10C-3B0C87AE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03F1E-9D89-4EF2-B1F2-A96FF9C5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6314D-474F-4974-B0B8-C3487DE5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A9049-DEB2-45D9-9124-3039E7E6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A91-4B2D-440C-B7DC-C6DFF57A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4CDC2-28C8-41FE-A506-1A503A3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387F5-038F-44DC-B9C9-68E37C14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2EEF5-2A31-4B7D-943C-CF3F48A9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2DA83-B9F5-408D-8C5A-96FF8834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7B798-4A9D-4E38-8AF1-9789AE5F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0CA10-148D-41C3-99FE-B9D3BC4B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3FB34-61D7-448F-9395-66D142C3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FDA2B-54B7-4403-A8C8-814FB277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4B271-6CEC-4B80-8FB7-2E5738FA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BE8A8-6510-4186-BC31-B27A1D19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B40-F03E-4D0E-BD3F-0B5E1AEB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8DDA9-8EC8-43AC-9E46-043FBF2E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2D3EE-DE21-49AE-B0CA-AC1CA3C9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8D990-4EB7-41B5-B68E-887087D3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B6362-CE46-41C2-9499-F19E149C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99F89-FD6D-4502-8573-2BFD6F2C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177-9737-4FC7-89B6-853FE8E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4E3B-DDFA-4783-8CF2-F552082044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783D-BC33-440E-BDD2-CF92423466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3DA8-8812-4541-BE6A-EC44FF2DF9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61C4-5445-4043-AB63-F4E873FE10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6635-6313-44C9-BA01-EB9ED9596F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356E-3187-41D1-9092-AE0B422A4B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E009-0E93-4B9E-A9C2-BE18281FE0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EMERSON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Being a transparent eyeball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 natur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(what happens)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When Emerson compares air to a cordial of virtue he is saying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Becoming a transparent eyeball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 nature one is not alone becaus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ranscendentalism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Metaphorically speaking, tilling soil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ociety love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but Emerson believe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Being a nonconformist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8" dur="20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EMERSON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merson mentions Socrates becaus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be misunderstood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ccording to Emerson, living a consistent life is/mean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oncord Hymn” is abou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e shot heard around the world is an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e Minutemen were praised becaus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By the rude bridge that arched the flood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One way to challenge the text is by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merson’s idea of One-Soul mea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6:40:11Z</dcterms:created>
  <dc:creator>Nvasquez</dc:creator>
  <dc:description/>
  <dc:language>en-US</dc:language>
  <cp:lastModifiedBy>Nvasquez</cp:lastModifiedBy>
  <dcterms:modified xsi:type="dcterms:W3CDTF">2010-10-20T17:15:52Z</dcterms:modified>
  <cp:revision>5</cp:revision>
  <dc:subject/>
  <dc:title>Emerson</dc:title>
</cp:coreProperties>
</file>